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787-DFA2-4C7F-A878-A7C74AB8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80B-BF7F-43DC-A868-E2060765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3B7-69C5-4CD5-A0DD-5BB0BD0A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31F-6E08-4822-95B4-B6E62D0A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589-F964-453B-9C28-D9291411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1B7C-0053-4FAE-92CC-22245BAB5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E53-5409-45C7-9CDE-B32A9779E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C832-07ED-456B-B668-7213F98F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0C51-BC7B-400C-A5D3-63817131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7EE-8132-4300-8FAC-76AAFA4B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4C8-E57B-4DEB-A5E5-886CB647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2CA1-DDB5-4F6F-9C9B-2ACB943F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E3B0-3316-4D82-83C0-C4E8C29A1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culptures-by-bjh.com/images/the%2520Confrontation-closeup%2520heads%2520left.jpg&amp;imgrefurl=http://www.sculptures-by-bjh.com/miscellan.htm&amp;h=545&amp;w=576&amp;sz=25&amp;hl=en&amp;start=5&amp;tbnid=jcAAIxFOHYuCJM:&amp;tbnh=127&amp;tbnw=134&amp;prev=/images%3Fq%3Dconfrontation%26svnum%3D10%26hl%3Den%26lr%3D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urekaheritage.org/images/Carson%2520Mansion%2520pic%252004.JPG&amp;imgrefurl=http://www.eurekaheritage.org/carson_mansion_css.html&amp;h=960&amp;w=1280&amp;sz=190&amp;hl=en&amp;start=2&amp;tbnid=vr9kWBepJd_rkM:&amp;tbnh=113&amp;tbnw=150&amp;prev=/images%3Fq%3Dmansion%26svnum%3D10%26hl%3Den%26lr%3D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pantransit.reptiles.org/images/1998-03-10/close-fox-apr2.jpg&amp;imgrefurl=http://pantransit.reptiles.org/images/sorted/photo/animal/&amp;h=529&amp;w=747&amp;sz=150&amp;hl=en&amp;start=14&amp;tbnid=6EYA9vc7nQGBiM:&amp;tbnh=100&amp;tbnw=141&amp;prev=/images%3Fq%3Dfox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ealingdaily.com/detoxification-diet/cayenne.jpg&amp;imgrefurl=http://www.healingdaily.com/detoxification-diet/cayenne.htm&amp;h=200&amp;w=200&amp;sz=5&amp;hl=en&amp;start=8&amp;tbnid=tzWBFrba2SFa2M:&amp;tbnh=104&amp;tbnw=104&amp;prev=/images%3Fq%3DPepper%26svnum%3D10%26hl%3Den%26lr%3D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nimals.timduru.org/dirlist/dino/Dinosaur-Giganotosaurus_carolinii-Illust.jpg&amp;imgrefurl=http://animals.timduru.org/dirlist/dino/&amp;h=272&amp;w=413&amp;sz=15&amp;hl=en&amp;start=9&amp;tbnid=wuhcew9Z459xVM:&amp;tbnh=82&amp;tbnw=125&amp;prev=/images%3Fq%3DDinosau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rtlex.com/ArtLex/t/images/talisman_crescent.n.red.jpg&amp;imgrefurl=http://www.artlex.com/ArtLex/T.html&amp;h=269&amp;w=200&amp;sz=14&amp;hl=en&amp;start=12&amp;tbnid=kxpb658q8C2k9M:&amp;tbnh=113&amp;tbnw=84&amp;prev=/images%3Fq%3DTalisman%26svnum%3D10%26hl%3Den%26lr%3D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hope.edu/academic/dance/dance31/img/RayBW9.jpg&amp;imgrefurl=http://www.hope.edu/academic/dance/dance31gallery.htm&amp;h=1000&amp;w=1500&amp;sz=390&amp;hl=en&amp;start=13&amp;tbnid=JykFRFUwuDbMaM:&amp;tbnh=100&amp;tbnw=150&amp;prev=/images%3Fq%3DDanc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ssgames.us/images/chess-game-480.jpg&amp;imgrefurl=http://www.chessgames.us/&amp;h=480&amp;w=480&amp;sz=39&amp;hl=en&amp;start=41&amp;tbnid=vshtbW8z3ytgvM:&amp;tbnh=129&amp;tbnw=129&amp;prev=/images%3Fq%3Dchess%26start%3D40%26ndsp%3D20%26svnum%3D10%26hl%3Den%26lr%3D%26rls%3DGGLJ,GGLJ:2006-10,GGLJ:en%26sa%3D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g.timeinc.net/cooking/flavorprofiles/molasses_m.jpg&amp;imgrefurl=http://profile.myspace.com/index.cfm%3Ffuseaction%3Duser.viewprofile%26friendid%3D454350&amp;h=211&amp;w=211&amp;sz=9&amp;hl=en&amp;start=4&amp;tbnid=Fc_xLr1mKCxyqM:&amp;tbnh=106&amp;tbnw=106&amp;prev=/images%3Fq%3Dmolasses%26svnum%3D10%26hl%3Den%26lr%3D%26rls%3DGGLJ,GGLJ:2006-10,GGLJ:en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eatures.cgsociety.org/stories/2004_12/haunted_house/haunted_house_big.jpg&amp;imgrefurl=http://features.cgsociety.org/story.php%3Fstory_id%3D2634&amp;h=544&amp;w=900&amp;sz=118&amp;hl=en&amp;start=4&amp;tbnid=fGXmWhmV7BlssM:&amp;tbnh=88&amp;tbnw=146&amp;prev=/images%3Fq%3Dhaunted%2Bhouse%26svnum%3D10%26hl%3Den%26lr%3D%26rls%3DGGLJ,GGLJ:2006-10,GGLJ:en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sd.ornl.gov/ern/embyr/fire-crop.gif&amp;imgrefurl=http://www.esd.ornl.gov/ern/embyr/embyr.html&amp;h=692&amp;w=705&amp;sz=341&amp;hl=en&amp;start=6&amp;tbnid=wXfyskKCgP_yuM:&amp;tbnh=137&amp;tbnw=140&amp;prev=/images%3Fq%3Dfire%26svnum%3D10%26hl%3Den%26lr%3D%26rls%3DGGLJ,GGLJ:2006-10,GGLJ:en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jek2004.com/Stubborn.jpg&amp;imgrefurl=http://www.jek2004.com/originals.htm&amp;h=310&amp;w=400&amp;sz=34&amp;hl=en&amp;start=1&amp;tbnid=imNRXpl2jWXMLM:&amp;tbnh=96&amp;tbnw=124&amp;prev=/images%3Fq%3DStubborn%26svnum%3D10%26hl%3Den%26lr%3D%26rls%3DGGLJ,GGLJ:2006-10,GGLJ:en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discovery.com/area/skinnyon/skinnyon970509/gallery/icecube.jpg&amp;imgrefurl=http://www.discovery.com/area/skinnyon/skinnyon970509/skinny1.html&amp;h=276&amp;w=350&amp;sz=14&amp;hl=en&amp;start=18&amp;tbnid=qv5T6HmhGwuYvM:&amp;tbnh=95&amp;tbnw=120&amp;prev=/images%3Fq%3Dice%2Bcube%26svnum%3D10%26hl%3Den%26lr%3D%26rls%3DGGLJ,GGLJ:2006-10,GGLJ:en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09680" y="1447920"/>
            <a:ext cx="4491000" cy="2801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9900"/>
                    </a:gs>
                    <a:gs pos="100000">
                      <a:srgbClr val="99cc00"/>
                    </a:gs>
                  </a:gsLst>
                  <a:lin ang="81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Mistral"/>
              </a:rPr>
              <a:t>Verbiage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9900"/>
                  </a:gs>
                  <a:gs pos="100000">
                    <a:srgbClr val="99cc00"/>
                  </a:gs>
                </a:gsLst>
                <a:lin ang="81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Mistral"/>
              <a:ea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ing in discernment or fore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yop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876920" y="1905120"/>
            <a:ext cx="354312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To confront in a challenging or aggressive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imad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c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362320"/>
            <a:ext cx="361008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Concerned with attaining wealth or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c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Acquisiti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81480" y="2362320"/>
            <a:ext cx="33814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Acting in a shifty or underhanded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fa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vi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8320" y="2362320"/>
            <a:ext cx="36432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Stimulating to the mind; appea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qu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ack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iqua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05520" y="2209680"/>
            <a:ext cx="293364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Developed or created at the very begi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yc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op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mord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rimordi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00600" y="2514600"/>
            <a:ext cx="37195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An object believed to have magical po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o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elst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d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alisma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362320"/>
            <a:ext cx="232560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: To make mer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v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ck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ges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av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2209680"/>
            <a:ext cx="41432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Improper or disrespectful treatment of something considered ho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ab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crile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acrile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562720" y="2286000"/>
            <a:ext cx="26859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bitually silent or quiet, inclined to talk very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rm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ci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697360" y="2362320"/>
            <a:ext cx="3446640" cy="4495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acitur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hess, an opening move that is risk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m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elst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ambi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3124080"/>
            <a:ext cx="2976840" cy="29768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cking in ease of movement or fluid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at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d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Visc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2819520"/>
            <a:ext cx="2257560" cy="22572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and gloo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h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op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r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Mur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743200"/>
            <a:ext cx="275256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to start fi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j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endi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i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cendi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895480"/>
            <a:ext cx="2647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tio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lavish 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u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com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ali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ejor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ncomiu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267080" y="2286000"/>
            <a:ext cx="422928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using to comprom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ck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ansi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r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a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00600" y="38088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Intransigent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743200"/>
            <a:ext cx="280044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make inflex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c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c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i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80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onge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209680"/>
            <a:ext cx="308628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52:38Z</dcterms:created>
  <dc:creator>User</dc:creator>
  <dc:description/>
  <dc:language>en-US</dc:language>
  <cp:lastModifiedBy>User</cp:lastModifiedBy>
  <dcterms:modified xsi:type="dcterms:W3CDTF">2006-10-10T19:21:01Z</dcterms:modified>
  <cp:revision>3</cp:revision>
  <dc:subject/>
  <dc:title>Slide 1</dc:title>
</cp:coreProperties>
</file>